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0B514A5-4A72-45CD-BF90-8F3143414E8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9E4A23-F3E1-4156-9633-8A249131352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4C747D-455D-4553-A39F-340C9FC660D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99C-12AA-4ED5-8CD2-BA1734F8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9F7-3547-4069-958F-05E916B5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92BDF5-6476-4A35-BC1F-C2FF155A672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6EDB04-34B5-4C65-8931-A88DFF2FE2B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1629E-DDA5-4722-8FAC-FFD1EFD6347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C206F9-5A35-4545-8B7B-26C931667C7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8AD4F-6B1D-4B00-8459-EABE31C0E32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E4C2F-45FB-48A8-B980-BD9D2EB5300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0DDEEB-9C06-4BD6-85F9-AA74678B15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182C56-9AA3-41B0-BC95-829CCDDEC12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28CC19-6591-4FFA-AC2F-2AAA7FEEF50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8FBD2-2B83-4442-A6B8-AF5BD422D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C20-33D9-4C60-94BD-491231DD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94973-9ED0-40D4-8BDD-E5D967F76B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7C57D-A488-477B-A7CF-C34A7DEBDB9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A0B0C-1799-49A3-9341-FBE8D9659C1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BC22B-D959-4003-9FAA-312119C44C6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1D1A57-B250-4262-8E2F-6C72693AF99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827FFF-9E62-46A3-92B5-99A70D60DF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C9AA9-E5CD-4B40-B050-E41A65B2820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F2407D-C428-49F4-9BFA-D7AC5825DA7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EBD055-6BA2-4042-81AF-DBBBC22F1C9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424D2-B9DB-42DC-B0ED-9747EB9B0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F71-1817-486E-BB27-8B20F87C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B6B88-24BC-47A9-8CAC-6626C04C5A0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7CE2-697E-4234-B004-B05D9AC86E0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33124-5A9E-4A88-80C6-B7FE7654BB8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A2458-0CD5-42F3-819A-DDBE4056421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611C3-D12A-4B41-8A4E-A5E01013A98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DA38C-915F-426A-B2BE-705AD7346C5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74103-1369-4A0B-A5DC-36720F7FAAD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56AB-2BEB-4648-A698-5E567A465E6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8C835-B11F-4EB9-9DD4-FF248FDF597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B5515-0E9E-4A91-B662-2B3080AA1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A3C4E-9C81-40FF-93EF-9B5FF3405D2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91C22-8E71-43C1-855A-102D05A0F40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46E61-C629-47EA-8D3F-ADBE5BCCF77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EBBC98-3BB4-4E19-A7C8-5BEDCE90990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C16D8F-2799-4313-AE13-BB0CE680307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443EF9-D69B-4F77-8662-EA2D3F72E72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FA2D93-7433-4EAA-8D03-8ACE1D0B4F9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9566F7-5224-4478-8B27-A160D1BF35F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B9145-AB58-4CF3-B658-4BBB27763EF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9E6A79-F774-43A1-989A-8EC6610106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9E7BAE-4260-4939-96A4-48E1172AB6E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02BB0D-C48B-4853-93C8-659D584CA70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4079BD-3DA9-4C5D-9022-0783434EF1A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632FFF-5718-4C8F-AFEC-B695418ABA5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3E0857-3A1B-4DF2-86D1-B0585B05549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B57EC-5E4E-40D6-87D3-46355B3572E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FAE28-2303-4BD0-ADCC-7AAF7438780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4F2AF-FFBB-451F-8A6D-9FA0B57C3F6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F3B69-C47A-44DB-BD87-1778D018516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80B5C3-07B1-4CB5-B84D-8BAF381CAA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D34BB-753B-43C0-8884-98DA7738A77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492F3-471F-474E-9FCA-8497C369B55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68998-187F-4D0A-982F-3B2978F45BF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486A1D-A908-4D41-B75D-F33E239B34A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46202-99E6-4579-B6C7-EFC6E0F4CDB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10F44-1692-4E3E-A37B-63603544137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1E4E1-0607-4247-9E50-29C8ACD5825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0F722-B487-4C29-9FBC-B0E16214C9E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A6B84-78B7-45D4-98CD-9C780E23038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BAA9C-10D8-4D66-A1D9-8F8D98EC7C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7BB75-315F-4379-A9F1-B2704A4FFAB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82515-D466-4233-B4D1-05BE52C74F8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5DC18-9CAB-4DE3-A44D-D6E1C1DC630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2313-22BE-44AD-8CA9-F887FBB40D7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F7B8D-5A4F-449A-B67A-665A4C1D0FA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EFE7D-23A3-4C75-B487-8DA9CF31223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C23FC-0B65-4D18-BB80-6311C1C1543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CE46A-669E-4656-9E00-938BE4650B1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0E7EB-DC15-4921-8237-3CDD78D91E8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36E82B-B1C8-4060-AE1F-92AC403973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62CE55-3BE2-4C33-93AE-283B340E6EC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484A8D-B499-42D0-A310-1C0B4473829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53E379-59C3-4947-8CB0-0691AFEFE97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6369F8-7CF1-48D6-B564-C62676892E2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CBA9B5-E7B6-44C2-BBD9-86E60F7E9F5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6BF62C-B060-40B4-968F-DD27F656824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78A048-60C2-4C45-A551-6B0C09ACA01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F2C8A6-BA6D-46CF-A98D-5DA21E4AD21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44D89E-2417-4A1C-8EF9-9398635FDE8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29C615-0CAD-406D-BDE1-5B9214F9EF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37C04D-6347-4AF2-BEE7-05962693A65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13DCB-CBB6-4483-877F-CC1B096C598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5611A-2F8C-44C0-9FCD-76A74585B73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B09AD5-FBB9-4E78-AA5B-D56911F2A12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0EA71-D388-486C-9EB5-012543F8F51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550D0-67F5-4250-9ABF-71B02B68A8A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7C72C-80C6-4956-A462-D838359D285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30DAC-E151-4A91-A183-0EEAD9BAF63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298199-578C-4EC3-9971-DFA0DA36936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D9A01-BB5F-4A06-AFB6-1CEC621B5A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B1108-2848-43AE-AC3C-014875712B2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2C208-206F-4C87-8C85-01EE9467F24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33B607-0B7B-4086-A910-0E7A83E96F5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991-1DA4-4475-8329-57F003AB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2F03B-3ADE-4E64-8DB3-D29AA07AF4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30489-2219-42A4-9F84-10CB022387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2F316-CFBC-4024-A9EB-564F7C159A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A1D6D-23E8-4E07-8974-3E46F81020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2F3F5-2808-4706-A6EE-C354A4B71C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130-DB96-4775-8B2C-48B409FD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0474F-930B-4638-9FD0-17738194DE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6F833-9B25-4F7F-94CD-3EA5E2C03F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CDEB7-261B-481F-9858-61C7A5C606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B3903-EE94-4B0B-9930-0FA5AB423D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4C6FA-A5C7-4337-B8CD-0B256575F1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27E28-B1DD-4DFF-88A4-58F7B12D4B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EEAB0-EEBC-40DF-8729-8F30089CE2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5EB78-5DC3-4D4C-986C-005535C889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46B36-FDE1-4F63-8793-7CB020AE81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0D2B4-B84C-4796-81D6-6E4933495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7B3-4F3E-47C5-8CAE-8F324501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7E8E3-7F96-49EA-9C5F-3894925BC2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D5369-7226-436F-9326-25E97B5097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2C1C7-33E9-4F15-A87A-C76C96BF9C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1D077-9FB1-43AC-8DDD-BD642E534B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89C06-8884-42FE-8183-5206BA5364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1C66D-BB99-437A-AA00-A6F16F3674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AD2A6-0158-4731-BAA2-2D4CF35EBF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4E638-8047-4B03-85DE-3B7E96B8D6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1BE07-E18C-4C48-8AB1-50DE9ADFB4E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8FA4-7424-4A4C-AA49-261792A97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269-515F-4DEE-874F-BDAE3196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625D-2139-4921-8417-D4B9CAE9A57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0AFD-9CC2-448E-ACCD-6DD798DB999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0C77-36EE-4F50-B6EC-9451997B4B2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E599-7AB4-484E-BA22-870AE72B6A1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3A14-A947-4FA4-8B5E-3EE6A90697C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6BC7-A33A-4960-9523-CEB57A7AB40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73DA-F365-49B5-8D8E-0515F3E9B7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21A2-5D0A-413A-B8CA-7D0EC8400F6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A9F2-0A02-4942-9D5A-EA83C57ADCC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2890-0964-4838-85A1-C99EB640F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FE5-9572-4F44-A819-0961EAE4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D3E4-9826-4306-B844-9D91D469775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0D97E-BD23-42D0-B457-B73CAFDC779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A3F8CD-466C-4CE0-8F12-45C3F563445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834004-D5E3-4998-8082-6035C2A6541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1BD296-498B-4F74-998A-1827E3F6C03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996A71-9E81-4CF9-8392-68965EA1ABB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17A2D-9E09-44D7-99A7-642AE4FCF54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CDFA4-C711-40DB-8A9E-898FD2C106B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ED64E-4C4E-4553-B056-35D72706EA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7F352-E7CC-4773-BC76-3229D33AE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ADF-70EF-4F9A-8CF0-9A87D617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87DF55-4762-4A36-9971-225F3B79908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892A3A-FA08-4335-9016-525F3F7C3C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A019BA-BBA4-4500-818D-C9EC47EE4BA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FB8FA-2F66-4ECE-BABF-9ABFC27F957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EE117-2F24-4393-BC00-B1E845E541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42514-3392-49DE-BB1B-6F1AACDA3C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F659F-B46D-42DF-9694-274BAE9A2DB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BA101-39D2-4E14-8E43-3050C0ACAF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38898-815E-4CC5-97DA-263DCD9403A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E3134-548B-4B4F-B9C7-EA0DF3AFC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1DB-180E-4387-9AB1-E6ABC5CD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7B38A-3BEC-45AE-A6E5-6F28F2226F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DDD90-D5EC-4754-89D6-2CA20EA10CB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4F7A1-A11B-4A5A-B24A-4AB72ED802C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97CC3-4B2C-4376-B300-D9E89914CF1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C4C42-A78E-43A8-9FFA-140B4AA11A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90E9-5A9E-4E79-91DE-0BD58F40ACE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3F0A7-7AA3-44D2-ABF9-ACD28EE138C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210D6-70E3-4A79-A5AE-C224C95A29B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8DB9-CF1F-469C-ACCF-A6D0066C750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64451-DFC4-4ED5-848D-860B20DC9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05A-075F-4B61-A57B-A7CB547D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79F2-CB24-4459-8A8E-03BE304CC32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CEBC-7DD2-448B-B6A3-903CC0FCEE6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3DFF4-76E0-4A74-A617-AD80DDE2642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B1DE4-E50B-4CC8-866E-BF91FB164A5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0AC17-7150-4162-8415-5D827EA3870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554D-3727-4926-9AD1-7E9081F9038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5E25-2A81-497E-8610-70FA40D4800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52A49-3719-44EE-9A94-2E8AC4EEA54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F824FF-7EFD-4E4B-A0DE-B9EC9A4836F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11995-9BA3-452D-BDD9-EC72AF82B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152CE6-E887-4776-8292-1224F0EAF0C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908074-AD82-43B3-B537-614103384C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90C4D28-19D8-426A-9836-E5E31F7C393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BC4DF1-72A1-4D03-BC77-CFAEBF8CA4A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985DED-F3F0-4361-A040-B9874B6FD9C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ED1EF29-3908-47AD-B6DB-201430FE20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6D16B2-843A-4692-8529-9D5B2F380F9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EA976A-2D1A-4AF5-9C78-50C034651B6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CC5F44-7B18-4849-B980-CF3BB0BD13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C01253-FC63-4C34-8320-089849DB39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D848E0-448C-4C3A-9420-23246CBF212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C93500-FDB9-4688-BCEF-AD9284F0449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EACF93-DE20-4F2B-8B6E-44C0D9CA01D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7B21A2-4B3F-4036-A750-953FD601761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B881A1-3831-4FAB-8A76-D4EB467C95C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EAE255-3D29-47AF-9276-2B9FABAC17E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2208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5. gada 27. augustā, plkst. 11:00 un 15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0306D1F-1BDB-4F02-B956-4AD010AD689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28.08.25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notiks-tiessaistes-seminari-par-nordplus-2025-gada-studiju-vizisu-konkurs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3022560" y="2103480"/>
            <a:ext cx="58165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9DA955-01DF-4117-8455-2FA2CD1FE38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3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1"/>
          <a:stretch/>
        </p:blipFill>
        <p:spPr>
          <a:xfrm>
            <a:off x="1128600" y="3162240"/>
            <a:ext cx="7375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tretch/>
        </p:blipFill>
        <p:spPr>
          <a:xfrm>
            <a:off x="2389320" y="919080"/>
            <a:ext cx="6254640" cy="501984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25DE09-6D1E-4E6B-AFF6-94C01A5746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C3355F-A196-4854-9BFD-AEBA40F7C05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7C776A-A5B3-427F-83DE-21FF624D959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583000" y="1582560"/>
            <a:ext cx="6227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tālr.  29554403 (GSM, WhatsAp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latviešu valodā ir </a:t>
            </a:r>
            <a:r>
              <a:rPr b="1" lang="lv-LV" sz="19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angļu valodā  </a:t>
            </a: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 un norādījumi projekta pieteikuma veidlap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8440" y="1635120"/>
            <a:ext cx="85870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lv-LV" sz="2800" spc="-1" strike="noStrike">
                <a:solidFill>
                  <a:srgbClr val="002060"/>
                </a:solidFill>
                <a:latin typeface="Verdana"/>
                <a:ea typeface="Verdana"/>
              </a:rPr>
              <a:t>Espresso sistēma -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hkdir.no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/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"/>
          <p:cNvPicPr/>
          <p:nvPr/>
        </p:nvPicPr>
        <p:blipFill>
          <a:blip r:embed="rId1"/>
          <a:stretch/>
        </p:blipFill>
        <p:spPr>
          <a:xfrm>
            <a:off x="517680" y="2470320"/>
            <a:ext cx="7702560" cy="329544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eft Arrow 6"/>
          <p:cNvSpPr/>
          <p:nvPr/>
        </p:nvSpPr>
        <p:spPr>
          <a:xfrm rot="1692600">
            <a:off x="5667120" y="483984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882800"/>
            <a:ext cx="9144000" cy="392436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1991880" y="6081840"/>
            <a:ext cx="3019320" cy="529920"/>
          </a:xfrm>
          <a:prstGeom prst="leftArrow">
            <a:avLst>
              <a:gd name="adj1" fmla="val 50000"/>
              <a:gd name="adj2" fmla="val 545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77760" y="18144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BC8888-FC00-41D4-B771-BB19F9B6AB4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95520" y="237960"/>
            <a:ext cx="60897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F84E8EB-0491-421B-905B-9595361AF3C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28.08.25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4-09-17T09:25:17Z</cp:lastPrinted>
  <dcterms:modified xsi:type="dcterms:W3CDTF">2025-08-27T10:52:01Z</dcterms:modified>
  <cp:revision>189</cp:revision>
  <dc:subject/>
  <dc:title>PowerPoint Presentation</dc:title>
</cp:coreProperties>
</file>